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carbrake.wav" ContentType="audio/x-wav"/>
  <Override PartName="/ppt/media/image8.wmf" ContentType="image/x-wmf"/>
  <Override PartName="/ppt/media/image14.wmf" ContentType="image/x-wmf"/>
  <Override PartName="/ppt/media/laser.wav" ContentType="audio/x-wav"/>
  <Override PartName="/ppt/media/image13.jpeg" ContentType="image/jpe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FD88-14E5-433D-895D-8C497607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E852-60A5-494A-AFC4-412B6CAB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7D4-9AAC-4BA6-A4FB-264ABE3C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4F6E-A858-40D0-80F2-C3956818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1965-2C63-43EA-BE21-048378ED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0FCA-2EF5-4644-8750-0E09CAFB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3792-F5E9-408C-A1E7-43451DE4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177C-58CA-4E86-9110-269EE32A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62D5-5C01-4E91-BD09-6E368837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EC69-C12C-46D9-9B69-C29EDA5A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2C47-436D-4425-8409-51CC021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9B8B-A639-4E26-ACA4-79D98D75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E5E2-F030-403B-8EB1-E75BB383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067F-D476-4C96-BBA8-A56BD89C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9662-643F-4E02-A63B-707C98E4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BC4F-87ED-46EF-BB1E-CA6954D3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DFDE-BA11-4458-B470-9A443F62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AB4-4B5B-461B-BFD4-0F71C95F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3AC9-0784-45C5-B217-DB7B83EE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40A-1BFD-4E05-A00B-4D6959B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6704-79F6-4C40-8CBF-4E3937B7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DEA-64DD-4F24-8DC2-EFA91FFD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A440-CA48-434B-AAD6-A25938FC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5C47-C466-4DF5-86EB-83780B29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0600-2EE6-4084-B56E-E11CB10E901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9258-0490-4D02-B666-B444F62F378D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8"/>
          <p:cNvSpPr txBox="1"/>
          <p:nvPr/>
        </p:nvSpPr>
        <p:spPr>
          <a:xfrm>
            <a:off x="2362320" y="2819520"/>
            <a:ext cx="4848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WHAT DO YOU WANT TO BE 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714320" cy="171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4724280" y="304920"/>
            <a:ext cx="1905120" cy="1842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3"/>
          <a:stretch/>
        </p:blipFill>
        <p:spPr>
          <a:xfrm>
            <a:off x="2666880" y="228600"/>
            <a:ext cx="1828800" cy="175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4"/>
          <a:stretch/>
        </p:blipFill>
        <p:spPr>
          <a:xfrm>
            <a:off x="7086600" y="380880"/>
            <a:ext cx="1492200" cy="1486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5"/>
          <a:stretch/>
        </p:blipFill>
        <p:spPr>
          <a:xfrm>
            <a:off x="3733920" y="3429000"/>
            <a:ext cx="1768320" cy="1865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a3d7a"/>
                </a:solidFill>
                <a:latin typeface="Comic Sans MS"/>
              </a:rPr>
              <a:t>SO… YOU DEC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7724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a3d7a"/>
                </a:solidFill>
                <a:latin typeface="Pristina"/>
              </a:rPr>
              <a:t>JOB SEEKING STRATEGI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tions and Consideration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 rot="5400000">
            <a:off x="289800" y="4052880"/>
            <a:ext cx="2800440" cy="48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EMPLOYMENT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438280" y="3733920"/>
            <a:ext cx="1524240" cy="609480"/>
          </a:xfrm>
          <a:custGeom>
            <a:avLst/>
            <a:gdLst>
              <a:gd name="textAreaLeft" fmla="*/ 190440 w 1524240"/>
              <a:gd name="textAreaRight" fmla="*/ 1333800 w 15242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0e08"/>
          </a:solidFill>
          <a:ln w="9360">
            <a:solidFill>
              <a:srgbClr val="fe0e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WordArt 6"/>
          <p:cNvSpPr txBox="1"/>
          <p:nvPr/>
        </p:nvSpPr>
        <p:spPr>
          <a:xfrm>
            <a:off x="4267080" y="2819520"/>
            <a:ext cx="3505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VERNMEN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4343400" y="3581280"/>
            <a:ext cx="34290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IVAT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4267080" y="4343400"/>
            <a:ext cx="3505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DUSTRY AND COMMERC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4191120" y="5257800"/>
            <a:ext cx="3581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ELF-EMPLOYE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SIZE OF THE COMPA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1905120" y="2590920"/>
            <a:ext cx="1133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MAL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5"/>
          <p:cNvSpPr txBox="1"/>
          <p:nvPr/>
        </p:nvSpPr>
        <p:spPr>
          <a:xfrm>
            <a:off x="1905120" y="3505320"/>
            <a:ext cx="190476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MEDI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"/>
          <p:cNvSpPr txBox="1"/>
          <p:nvPr/>
        </p:nvSpPr>
        <p:spPr>
          <a:xfrm>
            <a:off x="1676520" y="4267080"/>
            <a:ext cx="26668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NATIONAL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3" name="WordArt 8"/>
          <p:cNvSpPr txBox="1"/>
          <p:nvPr/>
        </p:nvSpPr>
        <p:spPr>
          <a:xfrm>
            <a:off x="4343400" y="3276720"/>
            <a:ext cx="429588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ULTINAT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mportant factors to be considered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Location (local, state, national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alary (Short term, long term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Career progression opportuniti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Full time, part-time, tempor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75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75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75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75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75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75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WORK VALU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CHALLENGING WORK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ECURITY OF TENURE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NDEPENDE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HIGHLY STRUCTUR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OPPORTUNITIES FOR CREATIVIT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PRESTIG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2a3d7a"/>
                </a:solidFill>
                <a:latin typeface="Times New Roman"/>
              </a:rPr>
              <a:t>TASK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b5249"/>
                </a:solidFill>
                <a:latin typeface="Times New Roman"/>
              </a:rPr>
              <a:t>Examine your working options and list them according 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ect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Salary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Career progression opportuniti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Mode of wor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b5249"/>
                </a:solidFill>
                <a:latin typeface="Times New Roman"/>
              </a:rPr>
              <a:t>Work valu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5b5249"/>
                </a:solidFill>
                <a:latin typeface="Times New Roman"/>
              </a:rPr>
              <a:t>THANK YOU AND GOOD LUC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362320" y="4191120"/>
            <a:ext cx="4495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8:39:55Z</dcterms:created>
  <dc:creator>BUCKrie</dc:creator>
  <dc:description/>
  <dc:language>en-US</dc:language>
  <cp:lastModifiedBy>M_00</cp:lastModifiedBy>
  <dcterms:modified xsi:type="dcterms:W3CDTF">2009-02-12T02:26:45Z</dcterms:modified>
  <cp:revision>2</cp:revision>
  <dc:subject/>
  <dc:title>PowerPoint Presentation</dc:title>
</cp:coreProperties>
</file>